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DB1-8338-4C1F-8124-D973C4AF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E12-AFA0-448F-9398-2E131CFD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88A-29ED-4F6F-9DB0-8319220B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428-CCE0-4379-B108-70DBC062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66F-4A99-494B-A9D3-EF9A6956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757-57BA-45C5-9BC0-2F441A4C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733-EF28-41AB-9191-D8BA7C95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3A6-E570-41A1-BEB8-CBBB5466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F49-F660-467D-B58B-4C0096FF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B12-A1B5-4A97-ACEB-0E911CD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D83-15EA-4679-8810-71AD136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F7F-1C4F-4346-9FC6-9A00126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75C-8A19-43FB-8B0C-3F7C34A2E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se/imgres?imgurl=http://members.tripod.com/minata/brgjrl_2.jpg&amp;imgrefurl=http://members.tripod.com/minata/bps_24_dec.html&amp;h=430&amp;w=430&amp;sz=59&amp;hl=sv&amp;start=3&amp;tbnid=8GNTyqh1AZ8JQM:&amp;tbnh=126&amp;tbnw=126&amp;prev=/images%3Fq%3DBirger%2BJarl%26gbv%3D2%26svnum%3D10%26hl%3Dsv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nq.se/archive/Man-made/Symbols%20and%20Signs/slides/IMG_0065.jp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erige under medelt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78936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476280"/>
            <a:ext cx="13557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372360" y="40464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lmarunio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97-15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mark, Norge och Sverige relativt homogent områ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 av Pommern blir unionskung, Margareta styr i bakgru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skt lönsam för samtliga län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486080" cy="1666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48000" y="4869000"/>
            <a:ext cx="18003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oligt 1400-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rige styrs ofta av en riksföreståndare, unionsmotstånd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0 Sten Sture d.ä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ian I unionskung, vill öka sitt inflytande över Sve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71 slaget vid Brunkeberg, Sverige vinner. Sverige ”utanför” un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71 slaget vid Brunke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990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00-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12 Sten Sture d.y. riksförestånd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ian II kung i Danmark – vill återföra Sverige till un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0 landstiger danskarna i Västergö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20 Sten Sture dödas. Danskarna tränger upp i Sverige, intar Stockho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rige tillhör mig”   Kristian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20 Stockholms blodb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ättegång mot Sten Stures anhän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 avrät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ål = kväva unionsmotståndet i Sver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460224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en krist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-t Ansgar anländer till N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änder sig till kungar och hövdingar ----- folket följer e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-t tysk och engelsk mission, Norden knyts till det kristna västerlan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utet av 1000-t är Sverige krist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36240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nstri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amp mellan Sverkerätten och Eriksät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100-1200-t Sverige är ett förbund av landsk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vister avgörs på 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en har liten m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en besökte tingen den s.k. Eriksga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ungaval ------ strider mellan ät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kungarna och Jar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-1200-t kungen liten ma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kungarna ökad makt 1200-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len basar över led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ger Jarl styr Sverige från mitten av 1200-t. Fick sin son Valdemar vald till kung 12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demar avsattes av sin bror Magnus Ladulås, slaget vid Hova 1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makten stä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attesystemet effektivis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ånga borgar byggs t ex Kalmar, Ö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3645000"/>
            <a:ext cx="24526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slag istället för landskaps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ar för hela ri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kil lag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frid, kvinnofrid, tingsfrid, kyrkofrid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a skatter till kungam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50 allmän lands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81720" y="3573360"/>
            <a:ext cx="21351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ontrollerade handel mellan Mälaren och Östersj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Vid Mälarens inlopp byggdes borgen Tre kronor, Stockholm växer f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älardalen – politiskt cen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Köpmän växer fram till en borgarklass i städ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ri bondeklass, rätt att delta vid tingen et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1300-t kamp mellan adel och kungama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Riksrådet etableras – stormän och kyrkan mäktigast män, Sveriges Magna Cha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lsnö stadggar 1280 - frä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gnus Eriksson kung, vill stärka kungamakten ytterli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deln gör uppror – söker stöd av tyska fur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agnus Eriksson fördri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lbert av Mecklenburg väljs till k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yska fogdar placeras på svenska borgar, far fram hårt mot befolkni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1904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mark ökar sitt inflyt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ar Atterdag (Danmarks kung) utnyttjar oron, intar Vi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61 Visby brandskatt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8625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issnöje med Albert av Mecklenburg samt tyska fog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venska stormän vänder sig till Danmark, drottning Margareta (Regent i Danmark och No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389 besegras Albert av Mecklenburg, slaget vid Falkö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00:18Z</dcterms:created>
  <dc:creator>thstr16</dc:creator>
  <dc:description/>
  <dc:language>en-US</dc:language>
  <cp:lastModifiedBy>thstr16</cp:lastModifiedBy>
  <dcterms:modified xsi:type="dcterms:W3CDTF">2007-10-02T09:58:10Z</dcterms:modified>
  <cp:revision>13</cp:revision>
  <dc:subject/>
  <dc:title>Sverige under medeltiden</dc:title>
</cp:coreProperties>
</file>